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A5D-5E15-4530-8475-47F0EE3C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0A91-2E22-44DA-856A-B485350539C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6298-5F99-462A-9387-D4E3EB34AFD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8258-11E5-4C1E-9265-D93759AF863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2F0-8482-4597-A3FF-56FD42F70FC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584-4504-4E3F-B1B9-383C7E69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5ED-E868-4669-8AD1-753846CE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103-7957-4333-B9ED-986D1695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67B-A8C1-4E13-9F1A-8C10708D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58E7-689E-41CF-9B66-259B7E4E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0878-F843-4739-9622-B7AA46B3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7BCA-1AA7-4AC3-9E8F-D77E586A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A63D-E0B7-41EE-9BF1-352DC65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C22-B25D-4741-BABA-ED451BF8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F73C-A563-45F5-80DE-D3662340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EF5F-5AFD-4024-B708-E767488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7DB-DC61-4B26-9919-B9C59B30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4E83-6D8C-47EB-BE8D-1C7B0519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BA14-0060-4A43-84D0-5C23142A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4947-5DC2-4762-B8CA-C19B608E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E95-6FC0-47AC-9C43-BDB24DCC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3F57-6CBC-4EBE-B789-FFAAACBC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C5E-CABB-4E38-AD5A-FE8901A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5A3-56F6-432C-97D1-FE2D5CFA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FA4-5ECB-4BFA-8EEE-E528970A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ED1-A951-46AF-867E-03D86F82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782-B53C-4C75-8E61-D777B24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06F-6470-4C4F-AEF6-674BFE8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6DD-5C4E-4981-9711-9AE4F9B1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D370-3D04-4624-ACFC-151FA1A44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7E5-A424-432A-93FE-1E647E680E1C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0000"/>
                </a:solidFill>
                <a:latin typeface="Arial"/>
              </a:rPr>
              <a:t>Aim:  What were the major events of WWII?</a:t>
            </a:r>
            <a:br>
              <a:rPr sz="3400"/>
            </a:br>
            <a:r>
              <a:rPr b="0" lang="en-US" sz="3400" spc="-1" strike="noStrike">
                <a:solidFill>
                  <a:srgbClr val="320000"/>
                </a:solidFill>
                <a:latin typeface="Arial"/>
              </a:rPr>
              <a:t>L38</a:t>
            </a:r>
            <a:endParaRPr b="0" lang="en-US" sz="3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009920" y="1676520"/>
            <a:ext cx="213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Now:  What is the meaning of this political carto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3" name="Picture 10" descr="appeasment"/>
          <p:cNvPicPr/>
          <p:nvPr/>
        </p:nvPicPr>
        <p:blipFill>
          <a:blip r:embed="rId1"/>
          <a:stretch/>
        </p:blipFill>
        <p:spPr>
          <a:xfrm>
            <a:off x="0" y="1600200"/>
            <a:ext cx="7143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appeasment"/>
          <p:cNvPicPr/>
          <p:nvPr/>
        </p:nvPicPr>
        <p:blipFill>
          <a:blip r:embed="rId2"/>
          <a:stretch/>
        </p:blipFill>
        <p:spPr>
          <a:xfrm>
            <a:off x="0" y="228600"/>
            <a:ext cx="8839080" cy="598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germany"/>
          <p:cNvPicPr/>
          <p:nvPr/>
        </p:nvPicPr>
        <p:blipFill>
          <a:blip r:embed="rId3"/>
          <a:stretch/>
        </p:blipFill>
        <p:spPr>
          <a:xfrm>
            <a:off x="4648320" y="457200"/>
            <a:ext cx="685800" cy="41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taly"/>
          <p:cNvPicPr/>
          <p:nvPr/>
        </p:nvPicPr>
        <p:blipFill>
          <a:blip r:embed="rId4"/>
          <a:stretch/>
        </p:blipFill>
        <p:spPr>
          <a:xfrm>
            <a:off x="5638680" y="838080"/>
            <a:ext cx="609840" cy="41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union jack"/>
          <p:cNvPicPr/>
          <p:nvPr/>
        </p:nvPicPr>
        <p:blipFill>
          <a:blip r:embed="rId5"/>
          <a:stretch/>
        </p:blipFill>
        <p:spPr>
          <a:xfrm>
            <a:off x="304920" y="2819520"/>
            <a:ext cx="68580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are the events in early WWII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rmany invaded Poland (Sept 3</a:t>
            </a:r>
            <a:r>
              <a:rPr b="0" lang="en-US" sz="3200" spc="-1" strike="noStrike" baseline="30000">
                <a:solidFill>
                  <a:srgbClr val="33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, 1939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lies declare war on Germany!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rmany then invades France and Belgium (poor guys!! Always getting picked on!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viet Non- Aggression Pact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tler made a deal with Stalin where he agreed not to attack the USSR and vice versa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 return Stalin would get part of Poland and a few other Slavic countrie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tler will later go back on this agreement and attack the USSR! (Bad idea!!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ides of the War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XIS pow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tal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Japan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LLIED power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reat Britai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USA late to joi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USSR late to joi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6" name="Picture 4" descr="wwii_combat_europe"/>
          <p:cNvPicPr/>
          <p:nvPr/>
        </p:nvPicPr>
        <p:blipFill>
          <a:blip r:embed="rId3"/>
          <a:stretch/>
        </p:blipFill>
        <p:spPr>
          <a:xfrm>
            <a:off x="4038480" y="19051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imeline Evidence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sing the section “Hitler’s Lighting War” create a timeline of WWII events from 1939 to 1941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eets:  Contains 15 events and 1 sentence explanation of eac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ceeds:  Give a detailed explanation of 2 events of your choice in 1 paragraph each.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2:59:49Z</dcterms:created>
  <dc:creator>NYCDOE</dc:creator>
  <dc:description/>
  <dc:language>en-US</dc:language>
  <cp:lastModifiedBy>NYCDOE</cp:lastModifiedBy>
  <dcterms:modified xsi:type="dcterms:W3CDTF">2012-02-17T14:00:14Z</dcterms:modified>
  <cp:revision>17</cp:revision>
  <dc:subject/>
  <dc:title>Aim:  What were the major events of WWII? L73</dc:title>
</cp:coreProperties>
</file>